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A9A1-A4DB-4E6E-A5B2-E0EAFB03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4462-0452-4EF6-BCEC-68033BAB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9953-26E1-4971-8B58-0E08521D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96D1-B8A5-4C7C-B095-41E75053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1106-F584-4235-9748-BDFC2074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8A52-AA60-44C2-AA15-D4A86DF6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B843-5AA2-42D1-936C-E0F80DF2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6F03-4012-47F7-A270-2595DA3B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1FFB-6259-4221-89D9-6EC1D12A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5FC1-D778-425D-A117-C0D7A1D0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C08F-DB45-4A08-BD3D-DA3CED59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062F-97BA-44CC-B5B3-550FDFAF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D504-7D6D-46A1-83AA-4F0CC85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B676-A695-48E9-B108-9BBFE69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E4B2-D2D2-4FF1-B36B-12ABD0D4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F30C-788D-4A6A-8C69-171CA50F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FC1-00A2-4958-A904-C1F5C45F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38F5-372A-4308-8E44-8E7EAD21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8BD3-B7A4-4917-B088-7D19EF9C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A9DB-0762-4F0B-8041-DCA9A1D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6302-64CC-42BB-9176-95A66C7A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8A35-76B9-4DDF-9BE2-CE3F67ED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715C-FAC2-40B6-9B40-64B83F69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1031-03B6-4E03-9409-E2BACB46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1C16-0EDF-47F5-97D5-0FBCDC1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EA67-01B7-46E8-9A33-3F566B5C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BCB0-4BB9-40C2-9CAA-F297F3F2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6E428-4C59-4978-BD57-CDEB92C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2DC6-3158-47E6-9DE6-A5DFD704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149D4-8F98-4357-9BA7-82B71694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9FEF-3A8A-401F-AF8A-4B0452EC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2B6F-DEEC-42DC-9317-1B9025F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8E1DA-7300-4C53-8B9B-954D902D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0C13-ABCE-4C4A-8D91-011A2251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0EB0-F378-4D7B-AAA0-FB16B270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DA10B-BC96-4F73-BBC2-1AFCE20F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DEC7-1440-4F04-AC1D-77F43DD2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831E2-002E-415F-933F-8BBF7C19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6B5E-2225-4AEF-8D22-6279DCA1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A0E7-378C-4F01-84E6-5A0F157A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A0E3-C372-406E-8BB5-7DBF3D9F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6178-4985-4D16-AA84-E992A159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36E0E-A7F4-453B-A9DE-8F077EAC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C2C33-6736-4867-ABC7-9E653888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351A-113C-4A0F-A336-5B2504E8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F253-69E3-4F25-A3C0-ADCDC7E2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EB45F-66A0-4FBF-8AC1-EC9F70D4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709B7-F206-473C-B09C-D74D9980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E6DA7-9F38-4C93-B84D-E7688BFA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D2218-70BE-47FF-A821-9C05D922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C8E5-41D5-44F1-8EC5-F453DD37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639DF-362B-4ADC-9050-BEF36FAD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D49A-C1AA-4EE2-9034-129A996E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2F111-874B-48E7-AE5C-B22F4106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D1811-9905-4D8D-A067-56B76060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6551-A48F-4464-8B55-4E614258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33C3B-A727-4E83-AD0C-F98BC1D1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A334A-9E11-4AEE-A77E-9426BFCF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F610C-4258-4073-BD8D-6253C6E7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884AB-C43D-41B2-B205-B8C54A8E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64673-9111-47E2-A532-A1205F44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01340-4DAC-4B35-987E-ECD3CDB5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82088-D88B-4220-8910-3E059F72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7EA44-374A-43C0-95F5-95ABE014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FCEAA-6259-467A-BE9D-CEE0F44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4C54E-888E-453B-83D5-6FD254B4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3081-DCC4-45AD-AAD2-1DC4845D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DA7029-ADC8-47CB-931C-7B96E307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74F48-4EEA-48BC-B12B-7F5FAB9F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1A44F-7D03-4B83-AB9F-5694207C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47D9-7B64-4FBF-A73A-478801B5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E3C2-CC33-4B8E-A885-3D3A67F3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30A7-3BAD-49B7-8979-A093AAA499EC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02DB-1628-46EE-83E1-8D86E1237B73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FF62-523C-4FA1-8A54-2D746FA2324E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71AB-0C3A-4FDE-858E-27535D12F8D8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1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1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BC0-B616-4687-B4BB-26F45C03735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7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7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8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7870-861A-4F01-A6BD-13D95051A3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nz/imgres?imgurl=http://1.bp.blogspot.com/-GT_P0AKYa74/TY7_5Y-U2MI/AAAAAAAACHU/XVTqZKT8SeM/s1600/warthog.jpg&amp;imgrefurl=http://true-wildlife.blogspot.com/2011/03/warthog.html&amp;usg=__qyM5iokMH41KPeXEEakwsJSsr4E=&amp;h=475&amp;w=639&amp;sz=84&amp;hl=en&amp;start=2&amp;zoom=1&amp;tbnid=e7O3m9eaRhJcoM:&amp;tbnh=102&amp;tbnw=137&amp;ei=swV-UO-xCoiXiAfzsYCQAg&amp;prev=/search%3Fq%3DWarthog%26um%3D1%26hl%3Den%26sa%3DN%26gbv%3D1%26tbm%3Disch&amp;um=1&amp;itbs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cc"/>
                </a:solidFill>
                <a:latin typeface="Tahoma"/>
              </a:rPr>
              <a:t>All About Warthog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y Lucas, Channon, J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addi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437000"/>
            <a:ext cx="259272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amoufl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They camouflage in trees, mud and tall gras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Graz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The Warthogs is the only pig adapted for Grazing in Gras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igh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s in Mating they fight if not m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arts of bod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have Facial w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They have long le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3. They have two tusks coming out of there n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4. They are incredibly like a short-haired guinea p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redi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Jada, Lucas, Channon, Maddi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ope you liked our fa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ope you liked it :D :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e have to go now because we got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ork to do now. :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94800" y="5589720"/>
            <a:ext cx="1249200" cy="12682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1268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8820000" y="3494160"/>
            <a:ext cx="324000" cy="29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5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5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5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5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4745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unny Pic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0643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5086440"/>
            <a:ext cx="2533680" cy="17715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2556000" y="5226120"/>
            <a:ext cx="1631880" cy="16318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4211640" y="5057640"/>
            <a:ext cx="2857320" cy="1800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2411280" y="2060640"/>
            <a:ext cx="2195640" cy="3101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5"/>
          <a:stretch/>
        </p:blipFill>
        <p:spPr>
          <a:xfrm>
            <a:off x="0" y="2565360"/>
            <a:ext cx="2487600" cy="24922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484360" cy="25639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7020000" y="5157720"/>
            <a:ext cx="2268360" cy="1700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8"/>
          <a:stretch/>
        </p:blipFill>
        <p:spPr>
          <a:xfrm>
            <a:off x="6659640" y="0"/>
            <a:ext cx="2484360" cy="2484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9"/>
          <a:stretch/>
        </p:blipFill>
        <p:spPr>
          <a:xfrm>
            <a:off x="7020000" y="2492280"/>
            <a:ext cx="2124000" cy="26654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0"/>
          <a:stretch/>
        </p:blipFill>
        <p:spPr>
          <a:xfrm>
            <a:off x="4788000" y="2781360"/>
            <a:ext cx="2076480" cy="22096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1"/>
          <a:stretch/>
        </p:blipFill>
        <p:spPr>
          <a:xfrm>
            <a:off x="4788000" y="1341360"/>
            <a:ext cx="1904760" cy="139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4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NZ" sz="3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We Will be telling you about Warthog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This Picture is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warthog if you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Don’t know wha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NZ" sz="3000" spc="-1" strike="noStrike">
                <a:solidFill>
                  <a:srgbClr val="000000"/>
                </a:solidFill>
                <a:latin typeface="Verdana"/>
              </a:rPr>
              <a:t>it looks like just look right now and you’ll know!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55640" y="2478240"/>
            <a:ext cx="3960720" cy="2463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iz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Female warthogs are about 48cm height and the width is about 61 c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Male warthogs are about 58 cm height and width is about 68 c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redators of a Warthog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A Main predator of a warthog is L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Leopards, Crocodiles, and hyenas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Another predator of a Warthog is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artho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arthogs fo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arthogs eat Tree Bark, Leaves, Dead Animals, Berries and Ro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Warthogs don’t normally kill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3. They often drop on their knees to ea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re home places are grasslands,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vanna, Forests, Sub-Saharan Af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trong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arthogs are 1 of the most strongest pi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arthogs can sometimes beat lions using their tusks (hor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Smar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’re Smartness can be up to 60%/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M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1. They mate with other Wartho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2. These pictures are Warthogs ma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732720" y="5253120"/>
            <a:ext cx="2411280" cy="16048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6661080" y="0"/>
            <a:ext cx="2482920" cy="15382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19360" cy="1752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1:03:25Z</dcterms:created>
  <dc:creator>5f24</dc:creator>
  <dc:description/>
  <dc:language>en-US</dc:language>
  <cp:lastModifiedBy>Samuel</cp:lastModifiedBy>
  <dcterms:modified xsi:type="dcterms:W3CDTF">2012-11-08T20:41:17Z</dcterms:modified>
  <cp:revision>25</cp:revision>
  <dc:subject/>
  <dc:title>All About Warthogs</dc:title>
</cp:coreProperties>
</file>